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DEAA-306D-43C4-B43C-037F7F15C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1798-8876-4AB5-81CC-5A97DAACF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AD8-891C-490E-9B3F-82BD2174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369-DB62-424B-B661-DEA4CD77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EE1-B573-4CE9-B9DE-5B09B54E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25B-B1E5-4E8C-B221-92B195C1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33C0-84DE-40E0-87F4-F09CBF13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D336-987D-46D9-A8EE-4EE7AB97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1299-060C-4E58-AB8A-A4140756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6FD4-7E2C-453A-B6E5-74010A5B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C45E-364A-463E-B0D2-FEBE8931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6FB3-613A-43AC-A8D6-441C503E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0CC9-6D81-4DB8-BFD0-491B83D7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629-2D81-4789-AEBE-AA05EF3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A31A-BD47-496E-8CD9-8CE406E2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D700-FE5F-484E-9E20-1819C56D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99BD-BC7C-4EA2-8732-BA49A85A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4BB9-0F53-4653-B32B-30ECC408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B00D-2C79-4114-A537-CA5AFD7B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B85F-8BF3-41EE-995A-427930C9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709D-D0D5-4A94-98FC-1D24B01E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02BE-F805-4613-B6FD-B410FC0C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9067-D015-4622-8929-CB12930B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18D8-358F-411E-8076-37E7313D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A2D-6A85-43D2-9753-E7BDE7EB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CEE9-ABE1-4616-9B82-B181FE3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D6F8-41E2-40DF-B9DC-E1740BE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CD88-4D81-4C9C-91B7-14371DF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320B-8A20-4141-B774-8BC1D3B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B121-21EF-4C56-A8DA-B890B4CC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8283-162C-43CC-A200-5D0B8805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4AF7-E87F-4C1B-8D06-C44C491E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ECB51-0FC9-4A3B-823E-36E8AAB0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0E16-4FCC-4F27-9782-A5DABA64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A923-7232-40D7-BFFF-5AF2D07B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274-ABBD-4CF9-A8B9-901DF07D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951E4-31C3-4162-9C98-580DC5B5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9BFA-395F-41A4-B1CA-6CF87985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ABCA-D45F-4E14-9E12-E5219C36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2342-DB4A-4637-8828-B94D94A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C3C6B-BF5E-47A1-BA2E-8019EC91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D2BE-4CD7-4994-8975-54504B68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AA516-FC2C-45D4-A413-02FDEA61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BC76-E460-4A8C-A3F4-BEA0B27E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BB87-600F-4838-B903-26ADD6AD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0EE-5DEF-4ED2-A602-8B27EEE2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9CC-A90B-49BD-9929-B93EADB4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7B2-A0ED-4085-9159-D297FE7D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FBF-569A-4D40-BC4E-1653B52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73E-C745-4655-8D27-3D3ADAD0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1DFC-1F4C-4331-B4FE-0B863C66C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FFB4-CD2B-4726-AE15-FD82A5780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64A0-013E-4BBD-BE51-FA12B32DC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D843-D26C-402B-8047-1DF45426F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CDD1-4482-4312-BA9D-4496F3EE7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 Finally Makes Sense to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Internal Control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and th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Why? Who? When? Where? Wha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Of Tes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Diagram 7" descr=""/>
          <p:cNvPicPr/>
          <p:nvPr/>
        </p:nvPicPr>
        <p:blipFill>
          <a:blip r:embed="rId1"/>
          <a:stretch/>
        </p:blipFill>
        <p:spPr>
          <a:xfrm>
            <a:off x="360360" y="1596960"/>
            <a:ext cx="8229600" cy="4919760"/>
          </a:xfrm>
          <a:prstGeom prst="rect">
            <a:avLst/>
          </a:prstGeom>
          <a:ln w="0">
            <a:noFill/>
          </a:ln>
        </p:spPr>
      </p:pic>
      <p:pic>
        <p:nvPicPr>
          <p:cNvPr id="197" name="Title Placeholder 21" descr=""/>
          <p:cNvPicPr/>
          <p:nvPr/>
        </p:nvPicPr>
        <p:blipFill>
          <a:blip r:embed="rId2"/>
          <a:stretch/>
        </p:blipFill>
        <p:spPr>
          <a:xfrm>
            <a:off x="1335240" y="225360"/>
            <a:ext cx="73580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Diagram 6" descr=""/>
          <p:cNvPicPr/>
          <p:nvPr/>
        </p:nvPicPr>
        <p:blipFill>
          <a:blip r:embed="rId1"/>
          <a:stretch/>
        </p:blipFill>
        <p:spPr>
          <a:xfrm>
            <a:off x="-6480" y="1749600"/>
            <a:ext cx="8669520" cy="3084480"/>
          </a:xfrm>
          <a:prstGeom prst="rect">
            <a:avLst/>
          </a:prstGeom>
          <a:ln w="0">
            <a:noFill/>
          </a:ln>
        </p:spPr>
      </p:pic>
      <p:pic>
        <p:nvPicPr>
          <p:cNvPr id="199" name="Title Placeholder 21" descr=""/>
          <p:cNvPicPr/>
          <p:nvPr/>
        </p:nvPicPr>
        <p:blipFill>
          <a:blip r:embed="rId2"/>
          <a:stretch/>
        </p:blipFill>
        <p:spPr>
          <a:xfrm>
            <a:off x="1335240" y="225360"/>
            <a:ext cx="73580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8" descr=""/>
          <p:cNvPicPr/>
          <p:nvPr/>
        </p:nvPicPr>
        <p:blipFill>
          <a:blip r:embed="rId1"/>
          <a:stretch/>
        </p:blipFill>
        <p:spPr>
          <a:xfrm>
            <a:off x="334800" y="2401920"/>
            <a:ext cx="8407440" cy="3979800"/>
          </a:xfrm>
          <a:prstGeom prst="rect">
            <a:avLst/>
          </a:prstGeom>
          <a:ln w="0">
            <a:noFill/>
          </a:ln>
        </p:spPr>
      </p:pic>
      <p:pic>
        <p:nvPicPr>
          <p:cNvPr id="201" name="Title Placeholder 21" descr=""/>
          <p:cNvPicPr/>
          <p:nvPr/>
        </p:nvPicPr>
        <p:blipFill>
          <a:blip r:embed="rId2"/>
          <a:stretch/>
        </p:blipFill>
        <p:spPr>
          <a:xfrm>
            <a:off x="1335240" y="225360"/>
            <a:ext cx="7358040" cy="1201680"/>
          </a:xfrm>
          <a:prstGeom prst="rect">
            <a:avLst/>
          </a:prstGeom>
          <a:ln w="0">
            <a:noFill/>
          </a:ln>
        </p:spPr>
      </p:pic>
      <p:pic>
        <p:nvPicPr>
          <p:cNvPr id="202" name="Diagram 7" descr=""/>
          <p:cNvPicPr/>
          <p:nvPr/>
        </p:nvPicPr>
        <p:blipFill>
          <a:blip r:embed="rId3"/>
          <a:stretch/>
        </p:blipFill>
        <p:spPr>
          <a:xfrm>
            <a:off x="249120" y="1212840"/>
            <a:ext cx="31593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523880" y="304920"/>
          <a:ext cx="6096240" cy="365040"/>
        </p:xfrm>
        <a:graphic>
          <a:graphicData uri="http://schemas.openxmlformats.org/drawingml/2006/table">
            <a:tbl>
              <a:tblPr/>
              <a:tblGrid>
                <a:gridCol w="2210040"/>
                <a:gridCol w="388620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NYS Dept. of Public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NTERNAL CONTROL TESTING FORM</a:t>
                      </a: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523880" y="685800"/>
          <a:ext cx="6096240" cy="6019920"/>
        </p:xfrm>
        <a:graphic>
          <a:graphicData uri="http://schemas.openxmlformats.org/drawingml/2006/table">
            <a:tbl>
              <a:tblPr/>
              <a:tblGrid>
                <a:gridCol w="609840"/>
                <a:gridCol w="2387520"/>
                <a:gridCol w="3098880"/>
              </a:tblGrid>
              <a:tr h="612720">
                <a:tc grid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ffice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233360"/>
                          <a:tab algn="l" pos="128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28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Function: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282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jective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1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4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Risk: </a:t>
                      </a: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ntrol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To Test: </a:t>
                      </a: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409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988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Evaluation of Control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</a:t>
                      </a: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Functioning as Intended    </a:t>
                      </a: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</a:t>
                      </a: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Not functioning as Intended    </a:t>
                      </a:r>
                      <a:r>
                        <a:rPr b="0" lang="en-US" sz="15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</a:t>
                      </a:r>
                      <a:r>
                        <a:rPr b="0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New Control Need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rrective Action Planned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ate Implemented or Planned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Test Performed By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ate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3"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irector or Chief Approval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ate: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ryl Ain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Banking Depar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elly Taleporo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Department of Lab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atie Mey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Office of Temporary and Dis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aren Ross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Department of Public Servi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oderated 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itia Day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YS DO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Banking Depar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Divisions with an Internal Control Coordinator for 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Control program revived in 2007-08.  Risk assessment conducted by program ar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d Manager Testing (using DoB model) in 2008-09 cycle (testing protocols for high risk areas identifi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testing in current cy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Banking Depar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 Testing – Division proposes testing protocols, which are reviewed and approved in Internal Control Certification process.  Actual testing occurs during following y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Risk Areas – Test every y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rate Risk Areas – Test every two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Risk Areas – Test every three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testing are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two positive testing cycles, testing may be extended by one y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ivision will be required to test 100% of its functions in one y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s included as ongoing procedure will be exempt from testing require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Department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Program inf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Control Program in place since law pa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 has 4 staff – work on other projects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5 Assessable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 350 Major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Department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ng performed by managers as part of Manager’s Self-Assessment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ontrols for each High &amp; Moderate risk function t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 on completing forms, instructions and sample forms made available to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back on the completed forms with suggestions of improvements provided to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S Department of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219320"/>
          <a:ext cx="8229600" cy="5110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5872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ol Being Test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872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 Conducting the Testing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 rowSpan="2"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hod of Testing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___  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____  Walk-through Ope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___ Talk with                    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____ Other: (Describe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Tes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 rowSpan="2"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equately Design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(explain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rovement St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Control Cost Effecti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(explain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080">
                <a:tc>
                  <a:txBody>
                    <a:bodyPr lIns="73080" rIns="73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s the Control be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tilized as Intend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 (explain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YS Office of Temporary and Disability As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FTE Internal Controls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aison in each program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 is more than 20 years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year, focus turned to testing (self-tes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, user friendlier 2 page testing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dissemination/collection tool (Share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offerings of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ollaboration with IA testing to validate ratings of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D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ing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838080"/>
          <a:ext cx="8229600" cy="5515200"/>
        </p:xfrm>
        <a:graphic>
          <a:graphicData uri="http://schemas.openxmlformats.org/drawingml/2006/table">
            <a:tbl>
              <a:tblPr/>
              <a:tblGrid>
                <a:gridCol w="3110040"/>
                <a:gridCol w="1471320"/>
                <a:gridCol w="1052640"/>
                <a:gridCol w="2595600"/>
              </a:tblGrid>
              <a:tr h="163800">
                <a:tc gridSpan="4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4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 Method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how you test the controls in this function to ensure that it is operating effectively and data produced is reliable.  If using reports from automated systems, identify the report(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mapping to identify control points; interview, observation, and document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the process you use to document this test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the process for resolving identified weaknesses or opportunities to improve control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480"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was this function last test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" rIns="3600" tIns="36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 did the test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Au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esting documente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urement Audit Report/ Internal Controls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any identified weakness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12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ve risk assessment not completed, aging  server w/o industry support, business continuity and disaster recovery plans tested(?), undated and unattributed policy and procedure documents, supervisory review and approval processes for the various types of payments is not uni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be how these have been, or will be, corrected, and the actual or planned date of such correc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 (name) is responsible for taking corrective ac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480"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will the function be tested nex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Remark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480">
                <a:tc gridSpan="4"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YSICA Presentation 3/25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20:56:02Z</dcterms:created>
  <dc:creator>89q080</dc:creator>
  <dc:description/>
  <dc:language>en-US</dc:language>
  <cp:lastModifiedBy>kgardineer</cp:lastModifiedBy>
  <dcterms:modified xsi:type="dcterms:W3CDTF">2010-03-24T19:16:55Z</dcterms:modified>
  <cp:revision>29</cp:revision>
  <dc:subject/>
  <dc:title>It Finally Makes Sense to Me</dc:title>
</cp:coreProperties>
</file>