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EDB-B084-4E6D-9264-3AE8B678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75E-223E-48B5-A899-344B1E4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10B-7E79-48EB-8B7A-2B9FCF6F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7CC-6832-46E5-A63F-FCD4D91D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5D43-E7CA-4AC8-B93E-4829E5BF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7995-32B8-4563-8DA0-ABB4014D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F06B-90AD-45EC-BC03-022EC217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A06B-1F62-4B10-BFBF-766A0973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A38A-A74A-4957-A97E-A37D07EF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838-C87F-4C01-8727-C6F1323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77D0-4815-4FBF-AF7A-4ADA0769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5BA-BE6D-4077-8960-F5B4B214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1598-E8BD-4E71-94F4-6B0A3E2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35E-140F-466B-854C-D13D7360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7DE3-5D97-48CE-BB1C-0F6EE886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1ED2-15E6-4A1F-968C-F77A0C65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01A1-7DBA-4380-A999-509724AE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B0FB-B8D1-4636-ABF6-45DB8094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C928-D33F-49C7-993E-1915FD64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1FB5-31DC-47C9-A235-FC257AD0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D60C-F9D7-4F8F-BC2A-AF310D5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7720-E638-4CE5-AA5D-BA8F0D1C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28F-571F-4845-8F06-F7372652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6E10-EFA1-4181-8A03-6477F2FE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A149-C821-40A0-88A8-CB9893F8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DE54-243C-4A39-BDCD-BEB57F4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542F-3AB9-4795-9D16-4D3E83F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4F68-E491-499E-884F-B70E039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8AAC-7053-421F-B374-F04E7DBB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1CF6-3EFF-4EA9-8B3B-5A645411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482C-F31C-4DAD-A3B5-DE40A261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6C8E5-1248-4BE5-BC98-0B75DA8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3083-DF86-49EB-9029-346A8C2E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496-D540-44AE-8D13-A8DE878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6F98-5CF8-4158-BDCC-411F6132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969B-F416-4367-A565-7E1CCC6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531F-917D-4D37-8B6A-5007CB92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C01D-6AF2-4D2F-875C-EAAC2CB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C511-0356-4E65-886A-1492745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1B78-45B4-4825-B67D-D0BE349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B2E0-4038-4078-82E9-18AC8934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D5F1-1C8F-4883-AAD9-CE4517C6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217D-ADCC-4FB6-B35B-563A893F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98D-E9BF-44FE-BFDB-8C83A622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742-4F58-42D2-91BA-3E913052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469-0D7B-4A48-8E60-86604C9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0B8-BDE0-4B1B-801A-69DD191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015-FC6B-4F31-B5C0-F28DB968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22C-3201-4120-80A7-823494184C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99E6-D3DA-473F-BF40-34D4816854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26A-14A1-4DD4-B554-B079E0D115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5A30-CFC1-4A4A-9A5D-D0D4786DC1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8516880" cy="2670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914640"/>
            <a:ext cx="7854840" cy="2028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tation by Tom O’Conn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YSICA Installation Lunche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uesday, May 10, 2011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MB provides major central guid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rcular A-123 sets the framework, and has evolved over the years in response to changes in Federal laws and other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vidual departments and agencies “tailor” requirements  via policies , regulations and instru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MB Circular’s Added Appendices in Recent Yea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nternal Control over Financial Report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 CFO Act, SOX impetu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mproving the Management of Government Charge Card Program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udit findings, adverse public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Requirements for Effective Measurement and Remediation of Remediation of Improper Payment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audit findings, new laws, 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lettered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emorandum on Conducting Acquisition Assessment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big $$, experi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sults of Enhanced Internal Control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of 24 major departments and agencies now getting unqualified opinions, and less “material weaknesse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vigilance over misuse of purchase cards, and (while a subjective judgment) less adverse publicity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law, Improper Payment Reduction and Recovery Act, in 2010, adds “teeth” and sets specific dollar targets for re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quisition issues still bear watchin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ave Enhanced Internal Controls led to Greater Public Confidenc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arently not!  It’s our cultur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gets in the new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polls show about the public’s  views on gover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government managers and auditors too “silent” about enhanced internal contr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e Man’s View in 201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together, managers and auditors have made great strides in initiatives for enhanced internal control, and there are real results.   Let’s shift the paradigm a bit, and, for the reputation of much maligned governments and the long-range good of the country, let’s “accentuate the positive” and, while looking for improvement, get the full story out!”   Tom O’Conn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Sunset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391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Questions and Answers</a:t>
            </a:r>
            <a:br>
              <a:rPr sz="49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Enhanced Internal Control Save the Government….and Does Anybody Know or Care?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m O’Connor’s Thoughts . .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 couple random ques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planning a very large shipment of styro-foam,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what do you use to pack i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policeman stops a mime on the street, does the policeman really need to say, “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You have the right to remain silent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ree Forces for Enhanced Internal Control in Govern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 Organizations’ “foc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rtification “stamped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ws, Policies, Initia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fessional Organizations Focus on Enhanced Internal Contro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C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YS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fessional Certifications in Government Add IC Empha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GF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G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ree governmental levels are activ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al--exam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te—exam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deral—”across the board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ederal Legislation has a Long History of “Pushing” Internal Contro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30477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50 la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2 Federal Managers Financial Integrity Act (the Integrity Act) still a “landmark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1990-today, a “statutory framework” has evolved, e.g. CFO Act and the Results Act, but many, many more (internal control i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ervasive consider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ederal Financial Managers Integrity Act (FMFIA), or the Integrity Ac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tion 2—Annual Statements of Assurance go to the President and the Congress  (GAO sets internal control standar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tion 4—Annual reports state whether financial management systems conform to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requiremen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et by OMB and GS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1:49:09Z</dcterms:created>
  <dc:creator>Tom O'Connor</dc:creator>
  <dc:description/>
  <dc:language>en-US</dc:language>
  <cp:lastModifiedBy>Mark B. Mitchell</cp:lastModifiedBy>
  <dcterms:modified xsi:type="dcterms:W3CDTF">2011-05-16T18:27:56Z</dcterms:modified>
  <cp:revision>19</cp:revision>
  <dc:subject/>
  <dc:title>Slide 1</dc:title>
</cp:coreProperties>
</file>